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move the slide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CA0E-74CC-46D6-ACBB-0ECB6A6F42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3A268-343A-4804-AC30-820BB56F5F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1B8F-C8BB-4A43-BAAD-6ECB96806D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36D72-8C87-4FBC-BDAA-44FBA99F79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2750D-9A6D-42E0-8A5B-A539E4EF42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художники были экспериментаторами в изобразительном искусстве. Давайте познакомимся с н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836AF-0B22-4F05-B9D6-66CD561B9A0E}" type="slidenum">
              <a:rPr b="0" lang="ru-RU" sz="1200" spc="-1" strike="noStrike">
                <a:solidFill>
                  <a:srgbClr val="2e22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99C47-FC38-464D-AB61-EB89138C34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вами картина Клода Моне. Что пытался передать в своей работе художник? Как бы вы её назва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E3133-8D63-43EF-BC6D-6AC3EACC585A}" type="slidenum">
              <a:rPr b="0" lang="ru-RU" sz="1200" spc="-1" strike="noStrike">
                <a:solidFill>
                  <a:srgbClr val="2e22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D9F5D-E66D-4192-B00A-B02E662B002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DD25E-C186-447A-A27E-EB7C5896A5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51AF7-52C7-4AE8-BAD0-30A683304C1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3637-83DD-4291-A902-0E9A1BC7F5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661E-6B2B-4A06-B97F-6D0A62D72C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C8A1-DE97-4702-B141-DF3AB5DF2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4F8B-5532-41DC-B236-2DCE77CE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417C-242F-49D5-96FC-152F989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1474-1A4B-4892-85B4-57DE965B5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ED1C-3B37-4B45-86F6-0189A9C02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2DA7-DDC8-4162-B1FE-D9CA716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8CE8-D23D-430B-944B-47DF5A1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9E285-758F-49F5-A4D7-8F8589A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0CE40-DECC-424D-B0A5-FD434EEB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2D3F0-445E-4EB2-B59F-ACA225C4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338B-FB35-4980-A6D3-CD6C6C7B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84DA-E162-4AC2-9675-38368FBE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E97A-EE66-42B5-A06F-B996A575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1BC5A-5F50-453B-8C2F-B76BC5F2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B7D9-12EB-499E-8507-C1BF37A5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4CEC4-74F1-4697-9A1C-CEC5E58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3D3D3-0CC9-428F-842E-EFE4FFA5D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3078-18F5-4671-BF1B-7A6B79D1E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5DF-2C7E-4624-BF0C-88A0784F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F1C-4F97-4C8D-857A-4130545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8C94-0D5B-471C-BC73-757186F0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A21-AE20-457B-9E7B-B27EF17A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0A16-1202-4C9D-94A4-10455CB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BF4-1C29-403B-B319-C19A8278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260-B474-4A76-A861-CA0C25CC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5BC8-2E96-4940-9C7F-EF7549D3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A954-4B5E-44A7-9DB8-4E48014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C7C0-E897-4CFD-8FF9-D5BFDFA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E7B-BA98-495C-B153-5C17010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E90-81D0-4A96-B797-10C342C86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798DF-2174-43AE-B0DB-E9C2196D6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01059-561D-49D1-A469-E07A596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B96DB-0FA7-4D93-8A09-5721C998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9A72-EE61-42B7-8A7F-B298A84A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8FE0-4DD6-4C0C-B293-C3B9E017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2DE04-7F64-45CD-B1C6-ABB9EB3F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25BD7-81D8-448F-ADA0-9C5EF6F2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80AD-F6DB-447B-A53D-4848FE0C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0F92D-207A-432B-ABD8-A251DB1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70704-0693-4020-A338-F6320825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6DE49-764A-493D-B52B-CCAB34B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5E78A-BFB5-4FA3-A204-3B74111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1035A-5567-4C55-B06B-99E6542F5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BB5BC-B0B4-4B8E-8798-ACFA1EE46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57CF-EC39-4872-BF9B-D74F35E9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915DF-A26E-4C14-B774-672CD2D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77797-5398-4246-9863-0B40292B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5C4F4-8554-46B5-8E02-F107CBA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25AFF-FF5C-409B-85A6-E0AD9BE7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05A3A-C2DA-4C32-9E54-78034AFB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058FB-2E14-463E-BC95-914DFE0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C8567-04AB-4C71-BB9C-0F681EA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74864-1B5F-4538-912D-10145B7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32AFE-82CA-47D9-9F9D-B65F585C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D910E-1BEF-4D81-BBCF-3570DA0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BE94-2CB1-415C-8252-56632A35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579D3-563B-4C53-8491-E3F311D29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88C9-B954-446A-BC1A-12E131946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948C-9108-4CD4-94BF-4686CB9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63AC-AC75-437B-9371-5CC0AC7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A76D-8F84-4C6A-A21E-8B4D8F3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DC10-1A3E-4137-9E36-8052CB9A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18C1-A200-40D8-84DC-8C19931A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E3F9-1E7D-4EF4-9D94-62CFE8FE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14E7-88F2-4693-B539-B7467D05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76ED-EBB5-4937-9614-C4175432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E090-4FE9-4A1F-A66E-CA7CAD23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605D-97F3-4F57-9A84-EE9D17C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7B45-6A19-49CA-9C96-EA4A2E6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8223-18E2-4151-8FE1-246C48E33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1409-562E-49FF-BB82-9988FC2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7661-E1EA-4BA1-9B1A-2EE3D3D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639144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743280" y="639144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91280" y="6391440"/>
            <a:ext cx="87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2e222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C500-F20F-42E1-A26B-D9D4667FACF5}" type="slidenum">
              <a:rPr b="0" lang="ru-RU" sz="2400" spc="-1" strike="noStrike">
                <a:solidFill>
                  <a:srgbClr val="2e222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1FF4E98-20F2-4500-BBAF-6152CF54CA00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EC0CAD-84B5-4C3E-9B98-F1EE603F5DC0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57B440-A0B9-42E4-AF7A-3CB2033F5BDF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58E4ABE-A1B3-4EC1-9A5B-4D5245A5222D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4B29DC-984A-4E68-BAF7-D3DCE6CFC6CF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3564000" y="3429000"/>
            <a:ext cx="54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8231e"/>
                </a:solidFill>
                <a:latin typeface="Candara"/>
              </a:rPr>
              <a:t>«Загадки Преображенской церкв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подготови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Кузнецова Татьяна Николае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учитель изо и технологии МОУ «ФУШ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740040" y="1052640"/>
            <a:ext cx="5119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c5054"/>
                </a:solidFill>
                <a:latin typeface="Candara"/>
                <a:ea typeface="Tunga"/>
              </a:rPr>
              <a:t>КИЖСКИЙ АРХИТЕКТУРНЫЙ АНСАМБ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"/>
          <p:cNvGrpSpPr/>
          <p:nvPr/>
        </p:nvGrpSpPr>
        <p:grpSpPr>
          <a:xfrm>
            <a:off x="611280" y="476280"/>
            <a:ext cx="7880400" cy="5975280"/>
            <a:chOff x="611280" y="476280"/>
            <a:chExt cx="7880400" cy="5975280"/>
          </a:xfrm>
        </p:grpSpPr>
        <p:pic>
          <p:nvPicPr>
            <p:cNvPr id="303" name="Picture 3" descr=""/>
            <p:cNvPicPr/>
            <p:nvPr/>
          </p:nvPicPr>
          <p:blipFill>
            <a:blip r:embed="rId2"/>
            <a:stretch/>
          </p:blipFill>
          <p:spPr>
            <a:xfrm>
              <a:off x="611280" y="476280"/>
              <a:ext cx="788040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4"/>
            <p:cNvSpPr/>
            <p:nvPr/>
          </p:nvSpPr>
          <p:spPr>
            <a:xfrm>
              <a:off x="611280" y="476280"/>
              <a:ext cx="7880400" cy="59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    </a:t>
            </a: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ель        берёза          сосна          осина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276120" y="1298520"/>
            <a:ext cx="40798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8231e"/>
                </a:solidFill>
                <a:uFillTx/>
                <a:latin typeface="Candara"/>
              </a:rPr>
              <a:t>Опис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лёгкое пластичное дерево, прекрасно поддающееся обработ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 от влаги оно разбухает и поэтому не пропускает во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умелому мастеру несложно придать ей нужную фор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пластины из этого дерева тонко реагируют на освещение, при ярком свете серебрятся и сияют, в пасмурный день имеют матовый, стальной оттенок, на закате приобретают розоватый от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716360" y="1298520"/>
            <a:ext cx="41515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8231e"/>
                </a:solidFill>
                <a:uFillTx/>
                <a:latin typeface="Candara"/>
              </a:rPr>
              <a:t>Описание</a:t>
            </a: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смолистое, мелкослойное дере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 отёсанное  топором лучше сохраняется, чем опиленное; в первом случае на торцах брёвен забиваются поры, влага не проникает внутрь, и дерево как бы консервируется, пропитавшись смолой, распиленное же бревно на торцах «махрится», волокна его разорваны, поры открыты, оно впитывает в себя влагу и потому гниёт быстр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2"/>
          <p:cNvGrpSpPr/>
          <p:nvPr/>
        </p:nvGrpSpPr>
        <p:grpSpPr>
          <a:xfrm>
            <a:off x="1979640" y="128520"/>
            <a:ext cx="4664160" cy="6550200"/>
            <a:chOff x="1979640" y="128520"/>
            <a:chExt cx="4664160" cy="6550200"/>
          </a:xfrm>
        </p:grpSpPr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1979640" y="128520"/>
              <a:ext cx="4664160" cy="655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4"/>
            <p:cNvSpPr/>
            <p:nvPr/>
          </p:nvSpPr>
          <p:spPr>
            <a:xfrm>
              <a:off x="1979640" y="128520"/>
              <a:ext cx="4664160" cy="65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7605720" cy="57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76120" y="228600"/>
            <a:ext cx="8591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Кижский архитектурный ансамб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619280" y="559440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Церковь Преображения Господня (1714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Церковь Покрова пресвятой Богородицы </a:t>
            </a:r>
            <a:r>
              <a:rPr b="0" lang="en-US" sz="1800" spc="-1" strike="noStrike">
                <a:solidFill>
                  <a:srgbClr val="2e222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1694-1764 гг.</a:t>
            </a:r>
            <a:r>
              <a:rPr b="0" lang="en-US" sz="1800" spc="-1" strike="noStrike">
                <a:solidFill>
                  <a:srgbClr val="2e222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Колокольня (1862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Бревенчатая ограда на каменном основании (1800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1593720" y="965160"/>
            <a:ext cx="5823000" cy="4657680"/>
            <a:chOff x="1593720" y="965160"/>
            <a:chExt cx="5823000" cy="4657680"/>
          </a:xfrm>
        </p:grpSpPr>
        <p:pic>
          <p:nvPicPr>
            <p:cNvPr id="272" name="Picture 4" descr=""/>
            <p:cNvPicPr/>
            <p:nvPr/>
          </p:nvPicPr>
          <p:blipFill>
            <a:blip r:embed="rId2"/>
            <a:stretch/>
          </p:blipFill>
          <p:spPr>
            <a:xfrm>
              <a:off x="1593720" y="965160"/>
              <a:ext cx="582300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5"/>
            <p:cNvSpPr/>
            <p:nvPr/>
          </p:nvSpPr>
          <p:spPr>
            <a:xfrm>
              <a:off x="1593720" y="965160"/>
              <a:ext cx="5823000" cy="46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 Box 6"/>
          <p:cNvSpPr/>
          <p:nvPr/>
        </p:nvSpPr>
        <p:spPr>
          <a:xfrm>
            <a:off x="4616280" y="1298520"/>
            <a:ext cx="4251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684360" y="333360"/>
            <a:ext cx="7870680" cy="5902200"/>
            <a:chOff x="684360" y="333360"/>
            <a:chExt cx="7870680" cy="5902200"/>
          </a:xfrm>
        </p:grpSpPr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7870680" cy="59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4"/>
            <p:cNvSpPr/>
            <p:nvPr/>
          </p:nvSpPr>
          <p:spPr>
            <a:xfrm>
              <a:off x="684360" y="333360"/>
              <a:ext cx="787068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395280" y="1700280"/>
            <a:ext cx="4608360" cy="3456000"/>
            <a:chOff x="395280" y="1700280"/>
            <a:chExt cx="4608360" cy="3456000"/>
          </a:xfrm>
        </p:grpSpPr>
        <p:pic>
          <p:nvPicPr>
            <p:cNvPr id="281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4608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4"/>
            <p:cNvSpPr/>
            <p:nvPr/>
          </p:nvSpPr>
          <p:spPr>
            <a:xfrm>
              <a:off x="395280" y="1700280"/>
              <a:ext cx="460836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5322960" y="981000"/>
            <a:ext cx="3394080" cy="5127840"/>
            <a:chOff x="5322960" y="981000"/>
            <a:chExt cx="3394080" cy="5127840"/>
          </a:xfrm>
        </p:grpSpPr>
        <p:pic>
          <p:nvPicPr>
            <p:cNvPr id="284" name="Picture 6" descr=""/>
            <p:cNvPicPr/>
            <p:nvPr/>
          </p:nvPicPr>
          <p:blipFill>
            <a:blip r:embed="rId3"/>
            <a:srcRect l="6435" t="0" r="5308" b="0"/>
            <a:stretch/>
          </p:blipFill>
          <p:spPr>
            <a:xfrm>
              <a:off x="5322960" y="981000"/>
              <a:ext cx="3394080" cy="51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7"/>
            <p:cNvSpPr/>
            <p:nvPr/>
          </p:nvSpPr>
          <p:spPr>
            <a:xfrm>
              <a:off x="5322960" y="981000"/>
              <a:ext cx="3394080" cy="51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1192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76120" y="228600"/>
            <a:ext cx="8591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Реставр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341280" y="1197000"/>
            <a:ext cx="3971880" cy="5295960"/>
            <a:chOff x="341280" y="1197000"/>
            <a:chExt cx="3971880" cy="5295960"/>
          </a:xfrm>
        </p:grpSpPr>
        <p:pic>
          <p:nvPicPr>
            <p:cNvPr id="289" name="Picture 3" descr=""/>
            <p:cNvPicPr/>
            <p:nvPr/>
          </p:nvPicPr>
          <p:blipFill>
            <a:blip r:embed="rId2"/>
            <a:stretch/>
          </p:blipFill>
          <p:spPr>
            <a:xfrm>
              <a:off x="341280" y="1197000"/>
              <a:ext cx="3971880" cy="52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"/>
            <p:cNvSpPr/>
            <p:nvPr/>
          </p:nvSpPr>
          <p:spPr>
            <a:xfrm>
              <a:off x="341280" y="1197000"/>
              <a:ext cx="3971880" cy="52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5"/>
          <p:cNvGrpSpPr/>
          <p:nvPr/>
        </p:nvGrpSpPr>
        <p:grpSpPr>
          <a:xfrm>
            <a:off x="4546440" y="2349360"/>
            <a:ext cx="4346640" cy="3257640"/>
            <a:chOff x="4546440" y="2349360"/>
            <a:chExt cx="4346640" cy="3257640"/>
          </a:xfrm>
        </p:grpSpPr>
        <p:pic>
          <p:nvPicPr>
            <p:cNvPr id="292" name="Picture 6" descr=""/>
            <p:cNvPicPr/>
            <p:nvPr/>
          </p:nvPicPr>
          <p:blipFill>
            <a:blip r:embed="rId3"/>
            <a:stretch/>
          </p:blipFill>
          <p:spPr>
            <a:xfrm>
              <a:off x="4546440" y="2349360"/>
              <a:ext cx="434664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7"/>
            <p:cNvSpPr/>
            <p:nvPr/>
          </p:nvSpPr>
          <p:spPr>
            <a:xfrm>
              <a:off x="4546440" y="2349360"/>
              <a:ext cx="434664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Плотницкий цен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"/>
          <p:cNvGrpSpPr/>
          <p:nvPr/>
        </p:nvGrpSpPr>
        <p:grpSpPr>
          <a:xfrm>
            <a:off x="179280" y="1341360"/>
            <a:ext cx="4249800" cy="3187800"/>
            <a:chOff x="179280" y="1341360"/>
            <a:chExt cx="4249800" cy="3187800"/>
          </a:xfrm>
        </p:grpSpPr>
        <p:pic>
          <p:nvPicPr>
            <p:cNvPr id="296" name="Picture 3" descr="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24980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179280" y="1341360"/>
              <a:ext cx="42498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5"/>
          <p:cNvGrpSpPr/>
          <p:nvPr/>
        </p:nvGrpSpPr>
        <p:grpSpPr>
          <a:xfrm>
            <a:off x="4643280" y="3068640"/>
            <a:ext cx="4249800" cy="3187800"/>
            <a:chOff x="4643280" y="3068640"/>
            <a:chExt cx="4249800" cy="3187800"/>
          </a:xfrm>
        </p:grpSpPr>
        <p:pic>
          <p:nvPicPr>
            <p:cNvPr id="299" name="Picture 6" descr=""/>
            <p:cNvPicPr/>
            <p:nvPr/>
          </p:nvPicPr>
          <p:blipFill>
            <a:blip r:embed="rId3"/>
            <a:stretch/>
          </p:blipFill>
          <p:spPr>
            <a:xfrm>
              <a:off x="4643280" y="3068640"/>
              <a:ext cx="424980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7"/>
            <p:cNvSpPr/>
            <p:nvPr/>
          </p:nvSpPr>
          <p:spPr>
            <a:xfrm>
              <a:off x="4643280" y="3068640"/>
              <a:ext cx="42498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8:49:06Z</dcterms:created>
  <dc:creator>admin</dc:creator>
  <dc:description/>
  <cp:keywords/>
  <dc:language>en-US</dc:language>
  <cp:lastModifiedBy>Светлана Демидова</cp:lastModifiedBy>
  <dcterms:modified xsi:type="dcterms:W3CDTF">2014-05-15T12:54:46Z</dcterms:modified>
  <cp:revision>41</cp:revision>
  <dc:subject/>
  <dc:title>Импрессионизм</dc:title>
</cp:coreProperties>
</file>